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B74-E05E-479D-AA2D-5F334CF4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139-3B04-433B-82CC-CB6FE119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16D-383F-4144-BF68-44DC827F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9A0-9D16-4663-92EE-059CD553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74A-E068-466B-AB08-4D6B675B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99A-D1E7-4374-9632-3FABE539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530-6F69-40CD-8BCF-93562AA5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856-1B1A-40FD-ABB0-66B08C8C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C56-08C3-4FA1-B485-E7442FD6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BEF-2621-4891-A4E8-4DB345BB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FCE-C3D4-449D-BDD6-4274A9A6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7DF-3163-47E8-B7AE-155ECCB3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245EE4-09C1-459F-934A-51BD7D5669C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ficinas WEB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78936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E Fátima Gaiotto Samp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fessores da S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mael Rocha Ju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gusto Francisco Teix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lson de Araujo Nasc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cessidade de atualizaçã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 de novas ferrament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EB 2.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vegar ou habit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uno protagonist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 medi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zir novas ferramentas de WEB 2.0, no processo de ensino e aprendizag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lhorar a utilização das ST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hecer novas ferramentas para divulgação de trabalhos dos professores e alu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logs cri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log da Prof. Ka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log da Prof. Lu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log do 3º ano do Ensino Mé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log do Prof. Au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log do Prof Kan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ulaLi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mbiente onde estão sendo realizadas atividades com alunos do 3º ano do Ensino Mé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Web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ebquest: Gincana Tecnológica, construção interdiscipl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ficina de Cri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s desenvolvidos por alunos do 5º an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vro 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ndows XP</dc:creator>
  <dc:description/>
  <dc:language>en-US</dc:language>
  <cp:lastModifiedBy>Windows XP</cp:lastModifiedBy>
  <cp:revision>0</cp:revision>
  <dc:subject/>
  <dc:title>Oficinas WEB 2.0</dc:title>
</cp:coreProperties>
</file>